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6152-892F-4F5D-A9E6-005AB23FD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three types of spatial data in a GIS (the others being image and raster data). Vector data represents geographic objects as points, lines or polyg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ster = A data structure composed of a grid of cells. Groups of cells represent geographical features; the value in the cell represents the attribute of the fe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QQ’s = computer-generated image of an aerial photograph in which image displacement caused by terrain relief and camera tilts has been removed. It combines the image characteristics of a photograph with the geometric qualities of a map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homepages.inf.ed.ac.uk/rbose/pubs/200404_ICESS/200404_icess_ppt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 Metadata Framework to Support the Preservation of Digital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 Metadata Framework to Support the Preservation of Digital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 Metadata Framework to Support the Preservation of Digital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 Metadata Framework to Support the Preservation of Digital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gital Provenanc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ation of processes in a Digital Object’s life cycle. 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nance typically describes Agents responsible for the custody and stewardship of 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s, key Events that occur over the course of the Digital Object’s life cycle, and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associated with the Digital Object’s creation, management, and preserv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8A53A-B49D-4551-AA7C-0EB85AA8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FCF95-C65F-49F6-BFB2-72393589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7FF5F-515E-4423-AF4B-1F538FAF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521DD-0672-4FC0-80DC-6D4A3161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0615-9CD2-4C5B-940B-1CD6E197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B360-A1BC-4ED6-B89E-B9884FC2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B026-A34B-4C7A-8A31-715A48B3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9B00-2B6A-48AA-849F-3C42075B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F4F8-578D-4E9E-9242-E8035A55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ECAE-8249-428C-89F8-3496EC45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A578-8E53-480D-9A07-D198EEAB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17701-5736-4E3F-BFDA-4DF054A0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88DA-009A-48B0-8CF9-09CCA807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5B64-BF50-4505-BD47-784FE8FA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21E5-AF77-44A0-B335-0A11DFAE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D303-DD51-4E7B-94E5-0A2A9EB3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5A26-8F05-44D1-B295-D4B5147A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E23E5-D811-4D03-A539-F3720737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BC50A-5670-486C-A5D7-600A56E4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C462-CEC7-47B3-B3E5-7FE96580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CD5E2-B827-4E4D-89E9-2A25DB16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45EDA-E3EA-4B38-A1FB-9B5FEE0E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98731-4C07-4AAF-BA31-F32CC90F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06AEA-CF3A-4D29-B1AE-3E9A1029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03A8-E46D-471F-8922-DC160C4715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DEB3-7EAC-4BBC-B4B3-603CE10AC8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ngda.org/research.php" TargetMode="External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oc.gov/standards/premis/index.html" TargetMode="External"/><Relationship Id="rId2" Type="http://schemas.openxmlformats.org/officeDocument/2006/relationships/hyperlink" Target="http://www.loc.gov/standards/premis/v2/premis-2-0.pdf" TargetMode="External"/><Relationship Id="rId3" Type="http://schemas.openxmlformats.org/officeDocument/2006/relationships/hyperlink" Target="http://www.loc.gov/standards/premis/v2/premis-2-0.pdf" TargetMode="External"/><Relationship Id="rId4" Type="http://schemas.openxmlformats.org/officeDocument/2006/relationships/hyperlink" Target="http://www.loc.gov/standards/premis/premis-registry.php" TargetMode="External"/><Relationship Id="rId5" Type="http://schemas.openxmlformats.org/officeDocument/2006/relationships/hyperlink" Target="http://www.loc.gov/standards/premis/pig.html" TargetMode="External"/><Relationship Id="rId6" Type="http://schemas.openxmlformats.org/officeDocument/2006/relationships/hyperlink" Target="http://www.loc.gov/standards/premis/pig.html" TargetMode="External"/><Relationship Id="rId7" Type="http://schemas.openxmlformats.org/officeDocument/2006/relationships/hyperlink" Target="http://www.loc.gov/standards/premis/pig.html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810760" y="-30240"/>
            <a:ext cx="34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Stanford Digital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en-US" sz="4600" spc="-1" strike="noStrike">
                <a:solidFill>
                  <a:srgbClr val="cccce6"/>
                </a:solidFill>
                <a:latin typeface="Arial"/>
              </a:rPr>
              <a:t>PREMIS &amp; Geospatial Resources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cy J. Hoebelheinri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Analyt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Mateo, C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B0E1-893D-4003-BE08-5D683AC1D0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umptions underlying PREM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“descriptive” metadata (used for search &amp; discove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“technical” metadata (usually about the format(s) of the component files or bitstr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as to be covered by domain specific metadata, e.g., FGDC or ISO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d the Gap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ED257-2416-4251-9E86-5F94BBB48F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Example of use of PREMIS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ata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d at fil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insertion by Ingest code to retain important provenance info for each file before moving into the preservation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file name from data provi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check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fi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39517-C8C9-4B04-BC62-9BF8C245E8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09480" y="1523880"/>
          <a:ext cx="784872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78487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M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xcerpt (v1.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B1226-8FAD-41B8-A693-0F20BC5CBA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about PREMIS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Objec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as associations b/w two or mor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entities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ies of different types, e.g., an Object &amp; an Ag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ed for long term preservation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relationship types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onent of representation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ormat varieties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quired schema or database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expressed using other schemas for packaging the resource such as METS or XFDU or MPEG DI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2A1AC-26D0-4690-B221-D1D03382A7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PREMIS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igh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ata ele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d at representatio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to donor’s Deposit Agreement (using M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nfo from the ingested Deposit Agreement for immediate play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0499-5F7B-4A60-A7A4-85D851E40A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M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igh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xcerpt (v1.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20880" y="1536840"/>
          <a:ext cx="7275240" cy="46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536840"/>
                    <a:ext cx="727524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FBDA3-1A44-414F-8DB8-030BF49DBB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PREM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or simple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 of descriptive MD from MS Access db =&gt; XML =&gt; M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at representatio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2640" y="1523520"/>
            <a:ext cx="403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this event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se of questions from outside dat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singular scripts &amp; transform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racticability of recording such events in productio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1F881-D4BF-47B1-8565-47640B3613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M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xcerpt (v1.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447920" y="1371600"/>
          <a:ext cx="694980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694980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9AABC-3069-4AB9-81CD-CA433E046E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ther example:  GIS Dataset:  Street network of given  metropolitan a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set 1:  official street centerline file used by emergency services to locate stree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set 2:  aspects of the road network including topography, angles &amp; geometry of the road network used for a tourist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4572000"/>
            <a:ext cx="8305920" cy="171360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to be documented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:\temp\states1;c:\temp \states2; c:\temp\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240D5-5293-4DB3-A5C6-291E95C0C2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PREM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ata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describe full process of data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“merge” and data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 of PREMIS – can describe events once in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this event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describe processes during different phases of lifecycle, even prior to ing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56596-B366-4D33-A3C4-8B84DC7C82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Be Discus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ef History of PRE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verview of PREMIS data el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for Geospatial Resources: 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6BA6F-AEA6-48D2-B1E4-0EE4F79092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PREM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g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ata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ata management with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 trail for descriptive 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of Ingest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vider who created / altered the resource or the metadata, e.g., USGS which added FGDC MD to HRO from Monterey Bay Water Re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271E8-9CC1-4281-B087-1ADBE4AC57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MIS &amp; Geospatial data --  Comments based on experienc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ell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specific MD exists, e.g., FGDC for descriptive and technical 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levels of the resource with MD to be associated, e.g., at representation &amp; file(s)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ocument various points in the lifecycle of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768B6-5B5B-4108-B003-832D0BED35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MIS &amp; Geospatial data --  Comments based on experienc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rlier versions of PREMIS unclear how to docu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 including at time of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propert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e of geospatial format 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596E3-3A27-434D-9731-A04DD64504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MIS v 2.0 more flex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XML b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hierarchical relationsh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 by use of new &lt;premis:extension&gt; element to insert other elements, XML fragments,  e.g., technical MD, provenance metadata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 considering the inclusion of mechanism used by packaging schemas to “wrap” or “reference” other metadat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1B143-E9DC-4420-AF7A-38690ABF02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MIS &amp; Complex Geospatial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re detail, see “An Investigation into Archiving Geospatial data Formats “ prepared for NGDA Project, funded by NDIIPP (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ngda.org/research.ph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s exami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aches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D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M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Center for International Earth Science Information Network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ES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‘s Geospatial Electronic Record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model on basi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/ computer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 underpinn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specific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qu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8E06E-8D94-4AEA-A8E8-BE8E85BB82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Geospatial “Contex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3" marL="1584000" indent="-22608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ing dataset in Time &amp;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 underpinnings, e.g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 of purpose / research method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ded use of data to avoid misinterpretation or mis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o p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GDC has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MIS would not necessarily consider this as “preservation” metadata, but rather “descriptive” or technical MD, however see v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9849-767C-44B4-A255-D2180034E3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“Environment” and/or “Significant properties” for geospati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 info pertinent at time of data cre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 info pertinent at time of data creation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ge or “provenance” data e.g., to communicate processing steps used to create scientific data 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, parameters &amp; source data which influenced or impacted the creation of the data set prior to its ingestion into the archive in order to full understand the data that you’re g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D150A-A879-4118-B59A-712406C1D9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vironment” &amp; “Significant properties”, continu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Quality – describing completeness, logical consistency, attribute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ustworthiness – data creator / provider reliable? = “authent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venance – processes &amp; sources for dataset = “understandable &amp; reli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of the specific needs of the “designated commun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7B899-3BF0-47BC-B16D-F3835F120B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Questions? / comments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ancy J. Hoebelheinri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jhoebel@gmail.c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9414-7698-459E-8F94-9DE4A96CB0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rief History of PRE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IS – Preservation Metadata came initially from cultural heritage / digital preservation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upon previous initiative (2001 - 02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sored by two key library descriptive MD utilities (OCLC and RL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vation Metadata Framework working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d a report outlining types of information that should be associated with an archived digita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565C-33E4-4CBA-B8D6-276C77BAFA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rief History of PRE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 a PREMIS working group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ised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actitio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ilding or working on preservation repositories including national data centers in the UK &amp; US, Netherland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d upo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mplementabl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lemen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ed in a two pronged effort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surv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ictionary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servation semantic units (= data eleme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82792-BE3C-48F2-8315-D5C2BA5035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rief History of PRE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IS working group publ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lementing Preservation Repositories for Digital Materials: Current Practice and Emerging Trends in the Cultural Heritage Community”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MIS Data Dictionary for Preservation Metadata, version 1.0”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E7523-6F09-4CE4-B692-DE0E73264B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rief History of PRE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I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I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ial committee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ed by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Library of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“PREMIS Data Dictionary for Preservation Metadata, version 2.0”,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March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uses?  See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implementation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PREMIS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Implementors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 Grou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IG) listserv for practitio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02625-AFCB-429E-87C7-09A2D1FA58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MIS Data Model for an “intellectual entit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526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 unit of information in digita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s or permissions info associated with Object or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lifecycle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es to Events and/or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AB3B8-4675-4E7A-A7F4-B459E9E0E0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77120" cy="4222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MIS Data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58B3F-ED97-4044-8971-D3A5C97C8B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PREM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abstraction, meant to cluster semantic units and clarif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3 sub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usual su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tstre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ontiguous or non-contiguous data within a file that has meaningful common properties for preservation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set of files, including structural metadata, needed for a complete and reasonable rendition of an Intellectual 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SIP 2009 Summer Meeting, UC Santa Barbara, CA, July 7 – 1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F35A7-3258-4F93-8914-793EE9A315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21:46:59Z</dcterms:created>
  <dc:creator>Tom Cramer</dc:creator>
  <dc:description/>
  <dc:language>en-US</dc:language>
  <cp:lastModifiedBy>Nancy Hoebelheinrich</cp:lastModifiedBy>
  <dcterms:modified xsi:type="dcterms:W3CDTF">2009-07-08T18:49:27Z</dcterms:modified>
  <cp:revision>156</cp:revision>
  <dc:subject/>
  <dc:title>Slide 1</dc:title>
</cp:coreProperties>
</file>